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245-DFEE-4D11-89AB-F5483113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9E0-21E2-49D7-8F47-93E42E51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FC549-013C-461C-9CDF-BEE82A3F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E04E7-627A-42A7-81C5-84EE2447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0D9B7-A478-402F-923D-9704A7C3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2FCC5-0309-4A39-9330-C4F044D3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7F6D1-E5A1-45E6-BE51-5955F5D0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C1AF4-ECAD-4C10-82FF-B659F782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DA915-B0FD-4419-9E7E-7C658832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E16D8-1A2C-4FAE-9BB2-47F89761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CE69C-A257-44AB-8509-DBD20A2E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E86-9EFA-46A8-B0B7-0D721FFA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2DB-E6E3-42B0-941C-818ACF1B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1D71-E4B3-423C-81C7-8F5D09AB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86D8-6312-4D18-930E-D80012AA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9534-A80A-43A8-B545-3AEA0E27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6394-2657-44E0-B0A5-908521FD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36F4-7DE5-40FC-8EB9-90D10201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77A9-BCD1-478C-A446-4272731A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78B7-38F5-4A35-BF22-9F171626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A43-B6EC-481D-96FB-0CA4EF70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0012-5A1C-4EE4-85DC-83EEE53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65CA-70A0-4AC9-B1DB-B621120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59FA-C91A-4A0D-8515-EEA3031D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7ABB-0657-4283-9308-DE12EE1B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99AF-B9EF-4C34-A7A7-0F498C3C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652D-E889-4015-BAF3-3C775944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0CC0-BF9E-4009-9659-788C86DE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18E6-4723-400E-93FF-80C65580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E87C4-A8BE-4831-82FB-2C12AC84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B3F6-5B2B-489D-BB57-34648C79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C24-B96F-43E0-95A2-031FDECA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A9E4-3F16-4FF0-A6DF-E9AE984C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F9A9-A728-410F-96D9-F28D7EDE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17CB-081E-4D1C-8099-99DD117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87BE-A316-49E3-BF53-6F3DAEF5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FA5D-8F88-4CBB-990E-9B8FABCE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E6AA3-0B82-4704-B2DE-76773885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24B0-4058-40EF-BBD8-C5AAE4F1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0B13-2BB6-4BBA-B9F3-4103D371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7622C-BF04-401A-A4A4-889B5855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4C58E-CB76-4C54-9C41-771E0F12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996-7B14-4FF4-95B4-A940D104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2218-7740-41B7-B498-E0E24C5A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5F06-BA19-4836-9843-E79AE81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7E674-ECB8-47DE-BFAB-1D95F169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C7FC8-B3D9-43E3-A26B-D6D51B1C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5730-2726-4634-9D7C-366D014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57B8-93EB-48D4-9B31-A12E0258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FEC9-E8D7-4964-BA68-723A6269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3ACEE-3377-4E34-AF03-F8199739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4E384-C642-434A-B5E4-37024846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33428-6218-4FD9-B95F-DBC459B9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C96-E5FB-4297-88DD-72239E1F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2E4BD-736A-46F8-BDFE-904A66D6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7B2A-793D-4909-BD3F-B4F0A534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489A1-85AB-4A7F-9AE8-D0857850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CABF-D6CA-460A-ACCE-1F158FFD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0CC12-0FAF-4D62-A071-C7B6994F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5AC22-BAD4-4EC8-9416-49E9C63E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875C-8CBA-48B2-8903-6F66691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B9A8C-7B45-4C86-A8A6-1CD91650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3481B-AEE1-49D3-BD7E-04C2E658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EA925-65C7-465F-8447-367E4BEE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C6E-1C08-49CB-BD37-95F042AB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F23FE-2BB1-4556-952F-C5F9643D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FB42-0711-44CF-AE74-C110570F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C1CBF-309E-4B25-92BA-24C9EF0E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37AD5-30B4-4029-8F9C-13A30E6C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7BCF0-DFEF-4E1F-A49D-99D2450D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A801D-27C4-4858-9871-E191A0E6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CF4DE-DCD2-4B13-A952-127B431D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D771F-E179-4934-BF90-132DEC5A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36FFD-492D-4E92-85DF-38790627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AC3E4-0146-4E2D-922B-9E3659CB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C21-BCDD-4015-A9B0-47DD5331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E64F-8970-4CF6-927A-14FF47DD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753DC-FE00-43F8-9059-157E626E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ADBD3-DEF4-4956-A2F0-A12327C5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686CB-07AF-4429-B784-002F4773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72336-2256-4EF8-AE34-E71131E8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8CD33-DCC2-40BE-9DDB-225F4809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8026C-93FC-414F-85D8-CC4D7C4F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81C5-6E95-450A-9A31-7B91C843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D05D9-632B-4762-BC15-19813451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01A78-DDDB-4066-825B-95C3BF25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4B0-2DC2-4052-A14D-DA0CAA2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A7F4C-B1A5-4E6C-A115-7FBF0DC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571FE-8BA7-4E06-80C8-3FF19DA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84D12-93F4-4925-B904-26E3513A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EBA06-7ABF-4F86-A90C-886730F1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4CC2C-2A17-4810-A536-36155653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9CDEB-2F37-4C66-9D14-6D5DA131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1BF45-BF46-4F1D-B8AC-27E81348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BDE8-CFBC-4760-84E2-AA0D0D7E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12662-0193-449E-AD68-29FEEA8E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874E2-465A-42E6-9141-629CD388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BD9-4257-4693-8DB7-6E8157C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93132-AD31-481B-9DAA-F10B2ED8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E03F-6FA3-4CEB-AF27-FC80CF9C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60775-E828-416D-9736-8EA0700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5C8CE-C977-4A37-AF6C-F391E79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D9F0E-F520-4567-8EBE-5EF59FEB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83B76-76B8-48BE-9557-1E22FF25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E5B20-2DAE-4ECD-82FA-9F1ED42C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C9AFA-4D1F-45CE-BFF1-99B15E8E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D5B8D-30D8-4CDC-B10F-20C789F3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296E7-6BA0-4DEF-B1E3-B07AEEBE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B36E-62DA-45C8-ACF2-A44EDDFDF4A7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3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8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7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8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2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2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7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7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7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2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2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7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7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1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2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6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6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riangle rectangle 1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e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1" name="Forme libre 19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orme libre 20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Forme libre 22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4" name="Forme libr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Connecteur droit 23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ZoneTexte 24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 2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B152-1AF2-47D4-9330-8C4D876294DA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FDE6-DB7E-4FA8-991D-593EBF727D3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59" name="Chevron 1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hevron 18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A6AA-DEBA-4D3D-8181-B774F24A31C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7D1A-7AA1-45DE-AAA1-E8B94A9B2D16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EBBE-FA96-40F0-A11B-C299D3E59C75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A2A9-189D-4CED-80C8-DDA5B9D2AB35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FADA-9758-4FBD-8821-949B99FAD71F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rme libre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rme libre 1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Triangle rectangle 1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5" name="Triangle rectangle 1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Connecteur droit 2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8" name="Chevron 22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hevron 23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14EF-A85B-42B5-A4DD-8B40F8C8005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Users\Pierre\Desktop\S&#233;minaire Acad&#233;mique CRSA\grille_UC_UF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ZoneTexte 1"/>
          <p:cNvSpPr/>
          <p:nvPr/>
        </p:nvSpPr>
        <p:spPr>
          <a:xfrm>
            <a:off x="971640" y="1125360"/>
            <a:ext cx="734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MODULAR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D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BTS CR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1"/>
          <p:cNvSpPr/>
          <p:nvPr/>
        </p:nvSpPr>
        <p:spPr>
          <a:xfrm>
            <a:off x="611280" y="198900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ormément au décret n°2007-540 du 11 avril 2007 du journal officiel modifiant le décret n°95-665 du 9 mai 1995 portant règlement général du brevet de technicien supérie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'obtention du brevet de technicien supérieur emporte l'acquisition de cent vingt crédits europée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Titre 4" descr=""/>
          <p:cNvPicPr/>
          <p:nvPr/>
        </p:nvPicPr>
        <p:blipFill>
          <a:blip r:embed="rId1"/>
          <a:stretch/>
        </p:blipFill>
        <p:spPr>
          <a:xfrm>
            <a:off x="-182520" y="-12600"/>
            <a:ext cx="8740800" cy="1712880"/>
          </a:xfrm>
          <a:prstGeom prst="rect">
            <a:avLst/>
          </a:prstGeom>
          <a:ln w="0">
            <a:noFill/>
          </a:ln>
        </p:spPr>
      </p:pic>
      <p:sp>
        <p:nvSpPr>
          <p:cNvPr id="956" name="Connecteur droit 5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ZoneTexte 2"/>
          <p:cNvSpPr/>
          <p:nvPr/>
        </p:nvSpPr>
        <p:spPr>
          <a:xfrm>
            <a:off x="971640" y="1268280"/>
            <a:ext cx="65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cret n° 2011-1256 du 7 octobre 2011 portant dispositions spécifiques 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ertaines spécialités du brevet de technicien supérieur pour les sessions d'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013 à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Bouton d'action : Document 3"/>
          <p:cNvSpPr/>
          <p:nvPr/>
        </p:nvSpPr>
        <p:spPr>
          <a:xfrm>
            <a:off x="7956720" y="5805360"/>
            <a:ext cx="502920" cy="576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52">
                <a:moveTo>
                  <a:pt x="0" y="0"/>
                </a:moveTo>
                <a:lnTo>
                  <a:pt x="21600" y="0"/>
                </a:lnTo>
                <a:lnTo>
                  <a:pt x="21600" y="24752"/>
                </a:lnTo>
                <a:lnTo>
                  <a:pt x="0" y="24752"/>
                </a:lnTo>
                <a:close/>
              </a:path>
              <a:path fill="lightenLess" w="21600" h="24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52">
                <a:moveTo>
                  <a:pt x="21600" y="0"/>
                </a:moveTo>
                <a:lnTo>
                  <a:pt x="21600" y="24752"/>
                </a:lnTo>
                <a:lnTo>
                  <a:pt x="20200" y="23352"/>
                </a:lnTo>
                <a:lnTo>
                  <a:pt x="20200" y="1400"/>
                </a:lnTo>
                <a:close/>
              </a:path>
              <a:path fill="darkenLess" w="21600" h="24752">
                <a:moveTo>
                  <a:pt x="21600" y="24752"/>
                </a:moveTo>
                <a:lnTo>
                  <a:pt x="0" y="24752"/>
                </a:lnTo>
                <a:lnTo>
                  <a:pt x="1400" y="23352"/>
                </a:lnTo>
                <a:lnTo>
                  <a:pt x="20200" y="23352"/>
                </a:lnTo>
                <a:close/>
              </a:path>
              <a:path fill="lighten" w="21600" h="24752">
                <a:moveTo>
                  <a:pt x="0" y="24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52"/>
                </a:lnTo>
                <a:close/>
              </a:path>
              <a:path fill="darkenLess" w="21600" h="24752">
                <a:moveTo>
                  <a:pt x="5273" y="5561"/>
                </a:moveTo>
                <a:lnTo>
                  <a:pt x="12271" y="5561"/>
                </a:lnTo>
                <a:lnTo>
                  <a:pt x="16327" y="9060"/>
                </a:lnTo>
                <a:lnTo>
                  <a:pt x="16327" y="19191"/>
                </a:lnTo>
                <a:lnTo>
                  <a:pt x="5273" y="19191"/>
                </a:lnTo>
                <a:close/>
              </a:path>
              <a:path fill="darken" w="21600" h="24752">
                <a:moveTo>
                  <a:pt x="12271" y="5561"/>
                </a:moveTo>
                <a:lnTo>
                  <a:pt x="16327" y="9060"/>
                </a:lnTo>
                <a:lnTo>
                  <a:pt x="12271" y="906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ZoneTexte 5"/>
          <p:cNvSpPr/>
          <p:nvPr/>
        </p:nvSpPr>
        <p:spPr>
          <a:xfrm>
            <a:off x="324000" y="2421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Titre 5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8491680" cy="11336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 txBox="1"/>
          <p:nvPr/>
        </p:nvSpPr>
        <p:spPr>
          <a:xfrm>
            <a:off x="324000" y="233208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Existence d’un référentiel de formation s’ajoutant aux référentiels d’activités professionnelles et de Certif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éclinaison des unités de certification du diplôme en unités de formation, elles-mêmes déclinables en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es crédits ECTS 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fr-FR" sz="1400" spc="-1" strike="noStrike">
                <a:solidFill>
                  <a:srgbClr val="464646"/>
                </a:solidFill>
                <a:latin typeface="Lucida Sans Unicode"/>
              </a:rPr>
              <a:t>European Crédits Transfer System)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pouvant être attachés aux unités de formation ou aux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Connecteur droit 7"/>
          <p:cNvSpPr/>
          <p:nvPr/>
        </p:nvSpPr>
        <p:spPr>
          <a:xfrm>
            <a:off x="395280" y="765000"/>
            <a:ext cx="7070760" cy="180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8" name=""/>
          <p:cNvGraphicFramePr/>
          <p:nvPr/>
        </p:nvGraphicFramePr>
        <p:xfrm>
          <a:off x="179280" y="1628640"/>
          <a:ext cx="4032360" cy="2067120"/>
        </p:xfrm>
        <a:graphic>
          <a:graphicData uri="http://schemas.openxmlformats.org/drawingml/2006/table">
            <a:tbl>
              <a:tblPr/>
              <a:tblGrid>
                <a:gridCol w="1195560"/>
                <a:gridCol w="1342800"/>
                <a:gridCol w="1494000"/>
              </a:tblGrid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-sionnel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 de cer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étences termin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4427640" y="1628640"/>
          <a:ext cx="4465440" cy="2125800"/>
        </p:xfrm>
        <a:graphic>
          <a:graphicData uri="http://schemas.openxmlformats.org/drawingml/2006/table">
            <a:tbl>
              <a:tblPr/>
              <a:tblGrid>
                <a:gridCol w="865080"/>
                <a:gridCol w="1150920"/>
                <a:gridCol w="447840"/>
                <a:gridCol w="417240"/>
                <a:gridCol w="506520"/>
                <a:gridCol w="417600"/>
                <a:gridCol w="6602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s de forma-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ai_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20" name="Accolade fermante 9"/>
          <p:cNvSpPr/>
          <p:nvPr/>
        </p:nvSpPr>
        <p:spPr>
          <a:xfrm rot="5400000">
            <a:off x="1836000" y="2564280"/>
            <a:ext cx="719280" cy="388944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889440"/>
              <a:gd name="textAreaBottom" fmla="*/ 387072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16200" y="10800"/>
                  <a:pt x="21600" y="10800"/>
                </a:cubicBezTo>
                <a:cubicBezTo>
                  <a:pt x="162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ccolade fermante 14"/>
          <p:cNvSpPr/>
          <p:nvPr/>
        </p:nvSpPr>
        <p:spPr>
          <a:xfrm rot="5400000">
            <a:off x="6300720" y="2340000"/>
            <a:ext cx="718920" cy="4319280"/>
          </a:xfrm>
          <a:custGeom>
            <a:avLst/>
            <a:gdLst>
              <a:gd name="textAreaLeft" fmla="*/ 0 w 718920"/>
              <a:gd name="textAreaRight" fmla="*/ 259560 w 718920"/>
              <a:gd name="textAreaTop" fmla="*/ 18720 h 4319280"/>
              <a:gd name="textAreaBottom" fmla="*/ 4300560 h 43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ZoneTexte 10"/>
          <p:cNvSpPr/>
          <p:nvPr/>
        </p:nvSpPr>
        <p:spPr>
          <a:xfrm>
            <a:off x="428760" y="489420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AP et référentiel de ce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ZoneTexte 16"/>
          <p:cNvSpPr/>
          <p:nvPr/>
        </p:nvSpPr>
        <p:spPr>
          <a:xfrm>
            <a:off x="4788000" y="486900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éférentiel d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Bouton d'action : Document 10">
            <a:hlinkClick r:id="rId1"/>
          </p:cNvPr>
          <p:cNvSpPr/>
          <p:nvPr/>
        </p:nvSpPr>
        <p:spPr>
          <a:xfrm>
            <a:off x="8101080" y="5732640"/>
            <a:ext cx="574560" cy="6490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400">
                <a:moveTo>
                  <a:pt x="0" y="0"/>
                </a:moveTo>
                <a:lnTo>
                  <a:pt x="21600" y="0"/>
                </a:lnTo>
                <a:lnTo>
                  <a:pt x="21600" y="24400"/>
                </a:lnTo>
                <a:lnTo>
                  <a:pt x="0" y="24400"/>
                </a:lnTo>
                <a:close/>
              </a:path>
              <a:path fill="lightenLess" w="21600" h="24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00">
                <a:moveTo>
                  <a:pt x="21600" y="0"/>
                </a:moveTo>
                <a:lnTo>
                  <a:pt x="21600" y="24400"/>
                </a:lnTo>
                <a:lnTo>
                  <a:pt x="20200" y="23000"/>
                </a:lnTo>
                <a:lnTo>
                  <a:pt x="20200" y="1400"/>
                </a:lnTo>
                <a:close/>
              </a:path>
              <a:path fill="darkenLess" w="21600" h="24400">
                <a:moveTo>
                  <a:pt x="21600" y="24400"/>
                </a:moveTo>
                <a:lnTo>
                  <a:pt x="0" y="24400"/>
                </a:lnTo>
                <a:lnTo>
                  <a:pt x="1400" y="23000"/>
                </a:lnTo>
                <a:lnTo>
                  <a:pt x="20200" y="23000"/>
                </a:lnTo>
                <a:close/>
              </a:path>
              <a:path fill="lighten" w="21600" h="24400">
                <a:moveTo>
                  <a:pt x="0" y="24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00"/>
                </a:lnTo>
                <a:close/>
              </a:path>
              <a:path fill="darkenLess" w="21600" h="24400">
                <a:moveTo>
                  <a:pt x="5273" y="5385"/>
                </a:moveTo>
                <a:lnTo>
                  <a:pt x="12271" y="5385"/>
                </a:lnTo>
                <a:lnTo>
                  <a:pt x="16327" y="8884"/>
                </a:lnTo>
                <a:lnTo>
                  <a:pt x="16327" y="19015"/>
                </a:lnTo>
                <a:lnTo>
                  <a:pt x="5273" y="19015"/>
                </a:lnTo>
                <a:close/>
              </a:path>
              <a:path fill="darken" w="21600" h="24400">
                <a:moveTo>
                  <a:pt x="12271" y="5385"/>
                </a:moveTo>
                <a:lnTo>
                  <a:pt x="16327" y="8884"/>
                </a:lnTo>
                <a:lnTo>
                  <a:pt x="12271" y="8884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Titre 15" descr=""/>
          <p:cNvPicPr/>
          <p:nvPr/>
        </p:nvPicPr>
        <p:blipFill>
          <a:blip r:embed="rId2"/>
          <a:stretch/>
        </p:blipFill>
        <p:spPr>
          <a:xfrm>
            <a:off x="212760" y="-6480"/>
            <a:ext cx="8493120" cy="1158840"/>
          </a:xfrm>
          <a:prstGeom prst="rect">
            <a:avLst/>
          </a:prstGeom>
          <a:ln w="0">
            <a:noFill/>
          </a:ln>
        </p:spPr>
      </p:pic>
      <p:sp>
        <p:nvSpPr>
          <p:cNvPr id="926" name="Connecteur droit 16"/>
          <p:cNvSpPr/>
          <p:nvPr/>
        </p:nvSpPr>
        <p:spPr>
          <a:xfrm>
            <a:off x="611280" y="836640"/>
            <a:ext cx="698508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e 7"/>
          <p:cNvGrpSpPr/>
          <p:nvPr/>
        </p:nvGrpSpPr>
        <p:grpSpPr>
          <a:xfrm>
            <a:off x="1025640" y="620640"/>
            <a:ext cx="6570720" cy="5602320"/>
            <a:chOff x="1025640" y="620640"/>
            <a:chExt cx="6570720" cy="5602320"/>
          </a:xfrm>
        </p:grpSpPr>
        <p:graphicFrame>
          <p:nvGraphicFramePr>
            <p:cNvPr id="928" name="Objet 3"/>
            <p:cNvGraphicFramePr/>
            <p:nvPr/>
          </p:nvGraphicFramePr>
          <p:xfrm>
            <a:off x="1043640" y="620640"/>
            <a:ext cx="6448680" cy="172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9" name="Obje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3640" y="620640"/>
                      <a:ext cx="6448680" cy="17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0" name="Objet 4"/>
            <p:cNvGraphicFramePr/>
            <p:nvPr/>
          </p:nvGraphicFramePr>
          <p:xfrm>
            <a:off x="1165680" y="2580840"/>
            <a:ext cx="6430680" cy="2746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1" name="Obje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65680" y="2580840"/>
                      <a:ext cx="6430680" cy="27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2" name="Objet 5"/>
            <p:cNvGraphicFramePr/>
            <p:nvPr/>
          </p:nvGraphicFramePr>
          <p:xfrm>
            <a:off x="1025640" y="4762080"/>
            <a:ext cx="6430680" cy="146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3" name="Obje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25640" y="4762080"/>
                      <a:ext cx="6430680" cy="14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4" name="Bouton d'action : Document 5"/>
          <p:cNvSpPr/>
          <p:nvPr/>
        </p:nvSpPr>
        <p:spPr>
          <a:xfrm>
            <a:off x="8388360" y="522936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Objet 3"/>
          <p:cNvGraphicFramePr/>
          <p:nvPr/>
        </p:nvGraphicFramePr>
        <p:xfrm>
          <a:off x="611280" y="1413000"/>
          <a:ext cx="73213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Obje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3213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Bouton d'action : Document 4"/>
          <p:cNvSpPr/>
          <p:nvPr/>
        </p:nvSpPr>
        <p:spPr>
          <a:xfrm>
            <a:off x="8540640" y="538164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Titre 1" descr=""/>
          <p:cNvPicPr/>
          <p:nvPr/>
        </p:nvPicPr>
        <p:blipFill>
          <a:blip r:embed="rId1"/>
          <a:stretch/>
        </p:blipFill>
        <p:spPr>
          <a:xfrm>
            <a:off x="212760" y="55440"/>
            <a:ext cx="8493120" cy="127980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5"/>
          <p:cNvSpPr/>
          <p:nvPr/>
        </p:nvSpPr>
        <p:spPr>
          <a:xfrm>
            <a:off x="684360" y="1052640"/>
            <a:ext cx="76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structuration de la formation en modules impliqu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9640" y="155736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, dès la première année de formation et sous la responsabilité du chef d’établissement, d’une équipe pédagogique organis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’articuler au mieux les différents modules en cohérence avec les publics accueillis et garantissant la possibilité de proposer des parcours individualisé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 de tests de positionnement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une réflexion sur l’enchaînement temporel de modules qui sont à priori proposés en première année et en deuxième ann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e terminer un module avant la fin du semestre en cour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Connecteur droit 6"/>
          <p:cNvSpPr/>
          <p:nvPr/>
        </p:nvSpPr>
        <p:spPr>
          <a:xfrm>
            <a:off x="611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3"/>
          <p:cNvSpPr/>
          <p:nvPr/>
        </p:nvSpPr>
        <p:spPr>
          <a:xfrm>
            <a:off x="611280" y="198900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partition des heures d’enseignement en classe entière et en effectif allégé est laissée à l'initiative du chef d’établissement sur proposition de l’équipe pédagogique, dans le respect du volume horaire prévu pour chaque module et dans le respect de la répartition annuelle des heures affectées à chacun des enseignements identifiés dans la grille horaire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Bouton d'action : Document 3"/>
          <p:cNvSpPr/>
          <p:nvPr/>
        </p:nvSpPr>
        <p:spPr>
          <a:xfrm>
            <a:off x="7596360" y="530064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Less" w="21600" h="27024">
                <a:moveTo>
                  <a:pt x="5273" y="6697"/>
                </a:moveTo>
                <a:lnTo>
                  <a:pt x="12271" y="6697"/>
                </a:lnTo>
                <a:lnTo>
                  <a:pt x="16327" y="10196"/>
                </a:lnTo>
                <a:lnTo>
                  <a:pt x="16327" y="20327"/>
                </a:lnTo>
                <a:lnTo>
                  <a:pt x="5273" y="20327"/>
                </a:lnTo>
                <a:close/>
              </a:path>
              <a:path fill="darken" w="21600" h="27024">
                <a:moveTo>
                  <a:pt x="12271" y="6697"/>
                </a:moveTo>
                <a:lnTo>
                  <a:pt x="16327" y="10196"/>
                </a:lnTo>
                <a:lnTo>
                  <a:pt x="12271" y="1019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itre 5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491680" cy="1341360"/>
          </a:xfrm>
          <a:prstGeom prst="rect">
            <a:avLst/>
          </a:prstGeom>
          <a:ln w="0">
            <a:noFill/>
          </a:ln>
        </p:spPr>
      </p:pic>
      <p:sp>
        <p:nvSpPr>
          <p:cNvPr id="945" name="Connecteur droit 6"/>
          <p:cNvSpPr/>
          <p:nvPr/>
        </p:nvSpPr>
        <p:spPr>
          <a:xfrm>
            <a:off x="395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1"/>
          <p:cNvSpPr/>
          <p:nvPr/>
        </p:nvSpPr>
        <p:spPr>
          <a:xfrm>
            <a:off x="611280" y="1989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la fin d’un parcours de formation, le chef d’établissement établit une attestation précisant le ou les modules suivis ainsi que le nombre de crédits ECTS alloués par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tte validation et cette attribution de crédits n’ont pas de valeur certific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Bouton d'action : Informations 3"/>
          <p:cNvSpPr/>
          <p:nvPr/>
        </p:nvSpPr>
        <p:spPr>
          <a:xfrm>
            <a:off x="6084720" y="5373720"/>
            <a:ext cx="719280" cy="934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4920"/>
              <a:gd name="textAreaBottom" fmla="*/ 888480 h 934920"/>
            </a:gdLst>
            <a:ahLst/>
            <a:rect l="textAreaLeft" t="textAreaTop" r="textAreaRight" b="textAreaBottom"/>
            <a:pathLst>
              <a:path w="21600" h="28072">
                <a:moveTo>
                  <a:pt x="0" y="0"/>
                </a:moveTo>
                <a:lnTo>
                  <a:pt x="21600" y="0"/>
                </a:lnTo>
                <a:lnTo>
                  <a:pt x="21600" y="28072"/>
                </a:lnTo>
                <a:lnTo>
                  <a:pt x="0" y="28072"/>
                </a:lnTo>
                <a:close/>
              </a:path>
              <a:path fill="lightenLess" w="21600" h="28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72">
                <a:moveTo>
                  <a:pt x="21600" y="0"/>
                </a:moveTo>
                <a:lnTo>
                  <a:pt x="21600" y="28072"/>
                </a:lnTo>
                <a:lnTo>
                  <a:pt x="20200" y="26672"/>
                </a:lnTo>
                <a:lnTo>
                  <a:pt x="20200" y="1400"/>
                </a:lnTo>
                <a:close/>
              </a:path>
              <a:path fill="darkenLess" w="21600" h="28072">
                <a:moveTo>
                  <a:pt x="21600" y="28072"/>
                </a:moveTo>
                <a:lnTo>
                  <a:pt x="0" y="28072"/>
                </a:lnTo>
                <a:lnTo>
                  <a:pt x="1400" y="26672"/>
                </a:lnTo>
                <a:lnTo>
                  <a:pt x="20200" y="26672"/>
                </a:lnTo>
                <a:close/>
              </a:path>
              <a:path fill="lighten" w="21600" h="28072">
                <a:moveTo>
                  <a:pt x="0" y="28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72"/>
                </a:lnTo>
                <a:close/>
              </a:path>
              <a:path fill="darken" w="21600" h="28072">
                <a:moveTo>
                  <a:pt x="10800" y="703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72">
                <a:moveTo>
                  <a:pt x="10800" y="740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72">
                <a:moveTo>
                  <a:pt x="8224" y="11460"/>
                </a:moveTo>
                <a:lnTo>
                  <a:pt x="12088" y="11460"/>
                </a:lnTo>
                <a:lnTo>
                  <a:pt x="12088" y="18458"/>
                </a:lnTo>
                <a:lnTo>
                  <a:pt x="13376" y="18458"/>
                </a:lnTo>
                <a:lnTo>
                  <a:pt x="13376" y="19380"/>
                </a:lnTo>
                <a:lnTo>
                  <a:pt x="8224" y="19380"/>
                </a:lnTo>
                <a:lnTo>
                  <a:pt x="8224" y="18458"/>
                </a:lnTo>
                <a:lnTo>
                  <a:pt x="9512" y="18458"/>
                </a:lnTo>
                <a:lnTo>
                  <a:pt x="9512" y="12365"/>
                </a:lnTo>
                <a:lnTo>
                  <a:pt x="8224" y="1236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Connecteur droit 5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Titre 6" descr=""/>
          <p:cNvPicPr/>
          <p:nvPr/>
        </p:nvPicPr>
        <p:blipFill>
          <a:blip r:embed="rId1"/>
          <a:stretch/>
        </p:blipFill>
        <p:spPr>
          <a:xfrm>
            <a:off x="-328680" y="109440"/>
            <a:ext cx="9369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1"/>
          <p:cNvSpPr/>
          <p:nvPr/>
        </p:nvSpPr>
        <p:spPr>
          <a:xfrm>
            <a:off x="611280" y="198900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en que l'ECTS puisse contribuer à la reconnaissance des études d'une personne entre différentes institutions et systèmes éducatifs nationaux, les établissements d'enseignement supérieur sont des institutions auton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écisions finales demeurent la responsabilité des autorités concer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Titre 6" descr=""/>
          <p:cNvPicPr/>
          <p:nvPr/>
        </p:nvPicPr>
        <p:blipFill>
          <a:blip r:embed="rId1"/>
          <a:stretch/>
        </p:blipFill>
        <p:spPr>
          <a:xfrm>
            <a:off x="-109440" y="-201600"/>
            <a:ext cx="8875440" cy="1609560"/>
          </a:xfrm>
          <a:prstGeom prst="rect">
            <a:avLst/>
          </a:prstGeom>
          <a:ln w="0">
            <a:noFill/>
          </a:ln>
        </p:spPr>
      </p:pic>
      <p:sp>
        <p:nvSpPr>
          <p:cNvPr id="952" name="Connecteur droit 5"/>
          <p:cNvSpPr/>
          <p:nvPr/>
        </p:nvSpPr>
        <p:spPr>
          <a:xfrm>
            <a:off x="539640" y="105264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Bouton d'action : Informations 6"/>
          <p:cNvSpPr/>
          <p:nvPr/>
        </p:nvSpPr>
        <p:spPr>
          <a:xfrm>
            <a:off x="6237360" y="5526000"/>
            <a:ext cx="718920" cy="935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935280"/>
              <a:gd name="textAreaBottom" fmla="*/ 888840 h 935280"/>
            </a:gdLst>
            <a:ahLst/>
            <a:rect l="textAreaLeft" t="textAreaTop" r="textAreaRight" b="textAreaBottom"/>
            <a:pathLst>
              <a:path w="21600" h="28097">
                <a:moveTo>
                  <a:pt x="0" y="0"/>
                </a:moveTo>
                <a:lnTo>
                  <a:pt x="21600" y="0"/>
                </a:lnTo>
                <a:lnTo>
                  <a:pt x="21600" y="28097"/>
                </a:lnTo>
                <a:lnTo>
                  <a:pt x="0" y="28097"/>
                </a:lnTo>
                <a:close/>
              </a:path>
              <a:path fill="lightenLess" w="21600" h="280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97">
                <a:moveTo>
                  <a:pt x="21600" y="0"/>
                </a:moveTo>
                <a:lnTo>
                  <a:pt x="21600" y="28097"/>
                </a:lnTo>
                <a:lnTo>
                  <a:pt x="20200" y="26697"/>
                </a:lnTo>
                <a:lnTo>
                  <a:pt x="20200" y="1400"/>
                </a:lnTo>
                <a:close/>
              </a:path>
              <a:path fill="darkenLess" w="21600" h="28097">
                <a:moveTo>
                  <a:pt x="21600" y="28097"/>
                </a:moveTo>
                <a:lnTo>
                  <a:pt x="0" y="28097"/>
                </a:lnTo>
                <a:lnTo>
                  <a:pt x="1400" y="26697"/>
                </a:lnTo>
                <a:lnTo>
                  <a:pt x="20200" y="26697"/>
                </a:lnTo>
                <a:close/>
              </a:path>
              <a:path fill="lighten" w="21600" h="28097">
                <a:moveTo>
                  <a:pt x="0" y="280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97"/>
                </a:lnTo>
                <a:close/>
              </a:path>
              <a:path fill="darken" w="21600" h="28097">
                <a:moveTo>
                  <a:pt x="10800" y="704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97">
                <a:moveTo>
                  <a:pt x="10800" y="741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97">
                <a:moveTo>
                  <a:pt x="8224" y="11472"/>
                </a:moveTo>
                <a:lnTo>
                  <a:pt x="12088" y="11472"/>
                </a:lnTo>
                <a:lnTo>
                  <a:pt x="12088" y="18470"/>
                </a:lnTo>
                <a:lnTo>
                  <a:pt x="13376" y="18470"/>
                </a:lnTo>
                <a:lnTo>
                  <a:pt x="13376" y="19393"/>
                </a:lnTo>
                <a:lnTo>
                  <a:pt x="8224" y="19393"/>
                </a:lnTo>
                <a:lnTo>
                  <a:pt x="8224" y="18470"/>
                </a:lnTo>
                <a:lnTo>
                  <a:pt x="9512" y="18470"/>
                </a:lnTo>
                <a:lnTo>
                  <a:pt x="9512" y="12378"/>
                </a:lnTo>
                <a:lnTo>
                  <a:pt x="8224" y="1237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oupe travail BTS AVA</dc:creator>
  <dc:description/>
  <dc:language>en-US</dc:language>
  <cp:lastModifiedBy>Pierre</cp:lastModifiedBy>
  <dcterms:modified xsi:type="dcterms:W3CDTF">2011-11-08T07:59:05Z</dcterms:modified>
  <cp:revision>155</cp:revision>
  <dc:subject/>
  <dc:title>activités et tâches professionnelles</dc:title>
</cp:coreProperties>
</file>